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F313-5A75-44C0-8164-1AE2B047F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69ED-6D1E-413C-8C1F-18116CE91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BF225B-B541-432E-8283-FB2957F64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4DB520-7263-4C0D-86B8-A2D3E3FBE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A80A24-F67F-413F-90C2-6F19C7F54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16096E-DC75-4C08-BCFA-3C60EDF11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BB4C96-6A46-4AEB-B3BE-0F0C7FABE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838DE1-51DE-4FD0-BFBA-4CF67131A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1FE591-779A-4FED-AC03-27DC23F2F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87EE45-DD29-4897-8C0E-7F6CDB500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E8206E-B402-45DE-BC52-8EB496F1F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139544-40AE-40D2-9254-648997EEA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DD9C-13F6-487C-886A-1152B19C6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801F88-2471-4872-8BD2-BFC98AA98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BC391C-266C-42D1-A14D-A369395F1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D599C4-3C0B-48C8-B3E7-1CA642568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D8AA3C-82D9-4FAD-8B05-5520C8325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0A4B24-A885-448E-B377-67A624489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D45C3B-8CD5-414E-8B97-80081635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739409-B00A-4627-819A-FCDB956A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0A67AE-9FED-4ED3-A201-9C908A02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A93701-0A2C-4DE9-BE50-292CB1564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A4C0DF-798E-4768-9C93-8A1ED801A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4128-2ACE-4F9D-8A73-648D351F8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930CDC-E9BB-42F5-B6E2-F3E61DBD9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EC40D9-712B-41AC-A57E-888BEDD73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03763F-A3A2-48D3-AC32-81206665F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0C049C-9B98-4E9A-965C-6675E066C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FE01C6-71A2-4E4B-8A10-E1F720825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6835E4-7B16-4D8A-91B8-E7D962865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27CA2B-A816-4076-BA8F-95B9A18C3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C9CFCE-A525-414A-B017-ADA1F94E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2F3973-F84C-4F2E-A5B1-39C5392E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A3AAAF-B76E-4F82-8792-65CE12722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5769B-F9AD-4C77-881F-ED47BCC9C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15EA3E-FDF0-4344-ADA1-406E8AD9A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F98469-E35D-4670-A382-2796173BC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3E2CE7-D35E-41F5-8734-602306966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6D551D-4993-46A6-9F2B-5B21654A1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57FE11-9883-47F9-B408-10965B209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22AB4B-508D-4F90-9935-2FAF56A07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F3D37B-C37F-45BA-8DDD-7AE858839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C208C5-4D07-44EE-B228-5C8876DE6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7D2D1D-771E-431B-ADAB-857D2EC3C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16F3DA-5748-4A45-8EDB-9096C1F0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EA8DA-78AA-4FED-A575-2BC8791E0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A189AD-1C68-40F7-8ECF-C656A759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EC98DE-D84F-4E4E-B831-47363C711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7E7743-B4B9-4E68-BCDD-58373FA8E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B580F5-86FD-4C95-802C-EF64A808E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FB798A-D424-4440-A4A4-430A8E92D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2BD6F-90F3-4F07-BB0F-FB57FD9B7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966C4-F934-4834-9100-314B81A98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8BD8C-2FEA-42FA-BD33-EC7DFE26A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E90FE-D85B-417A-8142-1EBD0BC55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885B1-C029-4559-BB27-0EA1D0D04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8636-046D-4A36-82A1-4EA0CDA5A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2C518-F5A9-49AB-8C44-43EB8356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809D1-24EF-4132-ABFA-E2E186EA2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C2E46-D9BC-415B-84AB-A4AB110C7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954E1-A3C4-4099-84CA-65937D792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F8B80-4C30-4B0D-BA41-259B68C0E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0E7DF-E0B1-40C5-B899-B59F50F05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D31AA-C0DA-4CAD-B8FF-F1A699E38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7FCAB-AA32-4BDD-BE9D-6F7AAB94D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07402-2523-4A34-B5E6-90FA529D0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8DED0-9F6C-4215-838F-822925513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0387-BD24-4FEA-9DEB-67D6B1A75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69120-591D-4D32-B772-06025A7F3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12BFF-8E5B-4443-8180-5C262687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7BB83-D695-4960-BA84-CD56322A7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B99CF-776B-48DE-BE5B-4A6F34DE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33347-50ED-4B04-A52F-735FA3E74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47A90-B43C-4B57-B249-B7B5D338F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09149-CF0A-4CB5-BE9F-724B01862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832A9-5910-41C5-8AE8-971125BFA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7187D-4757-4DD5-A985-9981C2ED6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FCA11-3BB6-4009-B80C-2862FA0E0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3BA3-4878-4A3E-A673-88A30AC92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2C9A9-6048-4A32-B77E-18BE157AD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1C24B-18FD-46F4-B3DB-0DDAFD14D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035CF-BDB4-4C8A-B186-657FE8C46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BDEC9-1077-4893-968C-DFF2AC5C5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99D26-5114-4667-AC53-F5EDB10D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AA9C4-B7BE-43C6-8682-EB31FB563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516ED-E7D6-4ECB-B524-BC4163CFD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2729E-59CF-4409-8717-EDA4AE39F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96C95-A949-44DC-8394-928F3FC1C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B8D25-0603-4015-B67C-2055551F2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6D07-5D7C-427B-AFD8-013CDFFD5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A1C3C-2783-4854-BFA5-874F6FD58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837836-A302-4E9E-99E8-BD6F7933A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938B9-C551-4920-AE71-D28D2DA83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1A0BB-9BF9-4854-AC6C-C4BF44C08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DB3E6A-D730-4CC7-89E3-898899ABC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F200FC-056A-4F33-9EB1-9325DD37E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4ED9A-5D56-4067-99BB-510A0AB2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33A4C8-0104-4D07-BEB4-68C6A366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43EB1-56D9-45D7-9687-1BAC04B4F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155C6-A811-4E3A-8745-56BFD862C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B97F-8F0F-46A8-9035-71AA75669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3C748D-BDAD-4C39-9E32-0BE2C01CD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32ECFE-1B27-496C-B831-657231EE9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38A6C4-8B5F-4DEE-9284-40E4E641D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2373E1-F9D8-45F5-A08F-3202D10F8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C0898B-D60B-4743-A3F0-4BB406D49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E90795-B16C-4526-9659-E96E53D18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430657-183F-4429-BE47-B159E6418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04547A-4887-41A0-9C02-D092D780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4B8B45-40A1-4179-80C4-573C3568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D8FA4E-0532-40FE-8EED-911476E99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2B00-5366-41A6-A22C-2D39224CF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06E247-041F-4B5C-9D7C-DA98F74C2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3A335-04A5-4C70-A97B-18A557F7C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A0F2D0-414F-4ECD-96BB-079980D9B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A4D369-A8DD-421D-B844-1962266B4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4230C7-C119-4008-8D8C-47FB06ACA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41BE4F-425F-4E03-B729-A4948E323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4E4C25-709B-4B34-927B-0E471B4A9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8B4FD5-83EA-4B3C-B54B-DC996244D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282A46-B4AF-4E15-B43A-475092B62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7D01B6-3175-44C7-A6D7-BE81C2C0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D70E-9E6D-40AA-B84E-D6426F30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3E58F7-39FC-4336-BBD8-F41E227F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1C7919-9DC7-45AE-B11D-D71ED3135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94AB82-3786-4528-B180-B5177BB15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8AFA82-6D97-4B7D-878F-AC0E5499C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1F11CE-4E57-440D-BB23-5C1687B36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213EBE-452F-42DB-9920-B5EA2EE48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A43926-5607-4E69-AA96-E59180CD1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2A4F38-8E35-4C8C-8036-5108B3BC9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AFD457-1251-46AD-882A-E3DD3705C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37166F-08DB-41DC-99C6-1878FC23A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D3A9-F0E9-490C-93C8-3CBBA95A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CEE20A-A649-4DBD-BBC3-75E3A8344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164610-A064-427E-9B24-17DE0839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0865B7-9118-496D-8AF6-451DFAEF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744E80-1049-48D7-BAC6-5C654DEC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7D853E-8E92-42B0-BA09-BFA63081F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79256D-5B16-431C-A716-13B6366D6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8FA485-15C2-48B0-B794-AF70F45C8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D72DBD-AA7C-4897-BC1F-43ACCB4AD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EC2FD2-B8C1-48C8-A0CA-F9223063B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C3A986-7EE7-4F34-9E04-1B4FC3132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05259-E032-4CA7-AB86-97219638063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2345E-E429-4942-B59E-4ED3801270A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E4D62-E480-4E77-9011-A7F6B6034EB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9B7B3-5188-451F-9AF5-FD8119F6BE2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AC0A8-2ADA-46FD-8308-F96FD1DFD02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B9CC2-1A5C-443E-A840-C5CD7F2CE20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7F6AE-0C1F-49D8-AB08-E96E179EA51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4A9D3-3121-46AF-A16B-59FC31DA80E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1966B-9093-418F-9AD8-1F678B3D335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D0B25-BF58-446D-875E-F7CB50484D9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D46C2-5317-482E-BF6B-F0A0A37BE77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061B3-FC5C-46BE-8789-46B599A110C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348 Pre každého z nás mies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e každého z nás miesto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Ježiš v srdci m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prišiel všetkých spasi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aj nás prijím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o môžeme my deti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e neho vykonať?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ím potešiť ho smieme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čo mu darovať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y chceme Pána chváli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vzývať z vďačnost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od neho sa učiť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už v útlej mladost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 ním každodenne kráča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stále viac ho zna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o dary sú, čo jemu smie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aždé dieťa d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budeme sa uči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ždy verne pracova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v živote sa snaži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esť Pánu Bohu vzd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ým naplníme príkaz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o Spasiteľ dal n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iť ako on si praj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š Priateľ a náš Pán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8T17:17:33Z</dcterms:modified>
  <cp:revision>53</cp:revision>
  <dc:subject/>
  <dc:title>Je veľký náš Pán, on slávy je Kráľ Nech do všetkých strán  spev vrúcnych znie chvál.</dc:title>
</cp:coreProperties>
</file>